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1F50-19FC-4069-82AA-2C541EF3E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CC82-7DBF-468A-953E-AC2ABA55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4944-C134-40CD-ADC4-CB0D736CD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9546-5BB2-46FA-B66C-08EE89805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53E1-D470-4893-BA03-0D9BEB18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28B3-4432-4B48-BAC7-CD494DC8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AEE8-4E7B-4451-ABA6-D3315689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5B9A-B13F-4A0D-BB87-D179C137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4D2D-BC6C-4440-87D9-F67B1F35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968C-55CA-4DDA-B220-8F955137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D10D-E1E9-422C-9A4D-5EAF02DA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7243-6D95-42EA-8886-3E19522A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34EF-B551-4A60-86BA-6BF9D4D42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imating the effect of thrombolytics for use in a mode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mbolytics: what are the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group has to complete a table by extracting relevant pieces of evidence from published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will have at your disposal the following pap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ess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ear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2;87;308-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igent (ISIS-2)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MJ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98;316;1337-134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te the table, justify any assumption you m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data by 10 year age-groups and s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are interested in short term mortality (30 da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7200" y="1649520"/>
          <a:ext cx="8229600" cy="3558960"/>
        </p:xfrm>
        <a:graphic>
          <a:graphicData uri="http://schemas.openxmlformats.org/drawingml/2006/table">
            <a:tbl>
              <a:tblPr/>
              <a:tblGrid>
                <a:gridCol w="1881360"/>
                <a:gridCol w="1663560"/>
                <a:gridCol w="1550880"/>
                <a:gridCol w="1747800"/>
                <a:gridCol w="1386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st estim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-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r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rombolitics, AMI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&lt;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55-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65-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75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&lt;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55-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65-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75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000080"/>
            <a:ext cx="74678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7960" y="785880"/>
            <a:ext cx="81262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0"/>
          <a:ext cx="8229600" cy="6594480"/>
        </p:xfrm>
        <a:graphic>
          <a:graphicData uri="http://schemas.openxmlformats.org/drawingml/2006/table">
            <a:tbl>
              <a:tblPr/>
              <a:tblGrid>
                <a:gridCol w="488880"/>
                <a:gridCol w="2198880"/>
                <a:gridCol w="1112760"/>
                <a:gridCol w="2104920"/>
                <a:gridCol w="1214640"/>
                <a:gridCol w="620640"/>
                <a:gridCol w="488880"/>
              </a:tblGrid>
              <a:tr h="21564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DATED NOV 2006 latest treatment effectiveness data from USA model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Acute myocardial infarction (ACUTE TREATMENT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r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ess 2002, updated FT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rombolysis , RRR, 30 day mortal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i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 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int estim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%CI 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%CI 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25 to 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35 to 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45 to 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55 - 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65 - 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75-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85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25 to 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35 to 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45 to 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55 - 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65 to 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75-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85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3:08:52Z</dcterms:created>
  <dc:creator>Martin O'Flaherty</dc:creator>
  <dc:description/>
  <dc:language>en-US</dc:language>
  <cp:lastModifiedBy>Martin O'Flaherty</cp:lastModifiedBy>
  <dcterms:modified xsi:type="dcterms:W3CDTF">2007-06-21T08:55:50Z</dcterms:modified>
  <cp:revision>3</cp:revision>
  <dc:subject/>
  <dc:title>Estimating the effect of thrombolytics for use in a model </dc:title>
</cp:coreProperties>
</file>